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F59-F282-49B8-92B3-97C06A6E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DBF9-801C-4FF0-BAD6-7DCB4550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283-1EDD-4E1A-A697-3F102648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230-EAF7-4BC6-85F9-20176CA5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E3F-F4D6-42A7-B34F-032F7D76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D394-28B4-4EAD-87CF-DCDEEDFD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F51-C64C-45D1-BB56-F31A8CCD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64A7-B747-4867-9D1C-C20EB78A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6C3F-9ECC-4167-BE64-3214686C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1078-6DA6-4A2B-9454-C07729D3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95C-62D2-458C-A0FC-D040481C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BE9-FC04-46A4-9111-B527BE5D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1014-1C32-4F37-A260-5FF559F38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20556" t="28447" r="22223" b="15555"/>
          <a:stretch/>
        </p:blipFill>
        <p:spPr>
          <a:xfrm>
            <a:off x="762120" y="1066680"/>
            <a:ext cx="7848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6:59:28Z</dcterms:created>
  <dc:creator>laba07</dc:creator>
  <dc:description/>
  <dc:language>en-US</dc:language>
  <cp:lastModifiedBy>laba07</cp:lastModifiedBy>
  <dcterms:modified xsi:type="dcterms:W3CDTF">2010-10-21T17:02:33Z</dcterms:modified>
  <cp:revision>1</cp:revision>
  <dc:subject/>
  <dc:title>Slide 1</dc:title>
</cp:coreProperties>
</file>